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10.png" ContentType="image/png"/>
  <Override PartName="/ppt/media/image2.jpeg" ContentType="image/jpeg"/>
  <Override PartName="/ppt/media/image3.png" ContentType="image/png"/>
  <Override PartName="/ppt/media/image4.png" ContentType="image/png"/>
  <Override PartName="/ppt/media/image5.jpeg" ContentType="image/jpeg"/>
  <Override PartName="/ppt/media/image6.jpeg" ContentType="image/jpeg"/>
  <Override PartName="/ppt/media/image8.png" ContentType="image/png"/>
  <Override PartName="/ppt/media/image7.png" ContentType="image/png"/>
  <Override PartName="/ppt/media/image9.gif" ContentType="image/gif"/>
  <Override PartName="/ppt/media/image11.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48A807-2FD2-429C-A1A8-E708D373FE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263ADA-52AE-4589-9AD6-3D9BAFBEDF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73"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4"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DDFCEFF-45AE-42E4-A59E-A0B021970AA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525A25E-804F-4710-BBF1-D278344AD9F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6"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CE89D1E-EA8F-4212-AEF1-6517207E1BC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7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9"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80"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6690BD0-3906-45BE-B98E-075AB78D93B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8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8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84"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51F3F17-CECA-4F09-8C94-902F6054723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8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88"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EA46872-8520-4772-B3BC-B984EF33357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90"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91"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852D7C7-3287-4F3E-994E-812A88E09CA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9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9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95"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96"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11BF3E4-52A2-4EE2-B293-887E9F371A9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98"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99"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00"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01"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02"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03"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A3B95DE-93D1-4909-AAAC-428CF64DA36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28"/>
          </p:nvPr>
        </p:nvSpPr>
        <p:spPr/>
        <p:txBody>
          <a:bodyPr/>
          <a:p>
            <a:fld id="{3831FEC4-750F-4D50-8080-30F626AE3DD6}"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FF0F9C-6EFC-419E-9292-80077F5100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41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28"/>
          </p:nvPr>
        </p:nvSpPr>
        <p:spPr/>
        <p:txBody>
          <a:bodyPr/>
          <a:p>
            <a:fld id="{6AADADBE-EBB7-4225-992B-1441C95F3CBE}"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41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28"/>
          </p:nvPr>
        </p:nvSpPr>
        <p:spPr/>
        <p:txBody>
          <a:bodyPr/>
          <a:p>
            <a:fld id="{FBF6B291-F665-4C23-8DDD-82E9BE861F1A}"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41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1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28"/>
          </p:nvPr>
        </p:nvSpPr>
        <p:spPr/>
        <p:txBody>
          <a:bodyPr/>
          <a:p>
            <a:fld id="{FA2A7ABF-C484-461B-BA00-EC974FE06FCD}"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28"/>
          </p:nvPr>
        </p:nvSpPr>
        <p:spPr/>
        <p:txBody>
          <a:bodyPr/>
          <a:p>
            <a:fld id="{FCF905E7-55AF-4EC7-86BB-DEA1D8943BCE}"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28"/>
          </p:nvPr>
        </p:nvSpPr>
        <p:spPr/>
        <p:txBody>
          <a:bodyPr/>
          <a:p>
            <a:fld id="{373E9040-0D3D-44D1-ADD3-02A4E82996CF}"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42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2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2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28"/>
          </p:nvPr>
        </p:nvSpPr>
        <p:spPr/>
        <p:txBody>
          <a:bodyPr/>
          <a:p>
            <a:fld id="{49B12FCC-2328-4FE6-BD33-16FD4B2FCEB4}"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42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2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2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28"/>
          </p:nvPr>
        </p:nvSpPr>
        <p:spPr/>
        <p:txBody>
          <a:bodyPr/>
          <a:p>
            <a:fld id="{1973650F-51BB-4C12-92C8-709D4FB7FE93}"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42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3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3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28"/>
          </p:nvPr>
        </p:nvSpPr>
        <p:spPr/>
        <p:txBody>
          <a:bodyPr/>
          <a:p>
            <a:fld id="{02E6845B-0B4D-47B4-A8AB-3A540F6B76F1}"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43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3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28"/>
          </p:nvPr>
        </p:nvSpPr>
        <p:spPr/>
        <p:txBody>
          <a:bodyPr/>
          <a:p>
            <a:fld id="{F1DA822F-6DBD-4B2E-91D6-2C74D83F310D}"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43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3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3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3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28"/>
          </p:nvPr>
        </p:nvSpPr>
        <p:spPr/>
        <p:txBody>
          <a:bodyPr/>
          <a:p>
            <a:fld id="{D650F2B9-5583-4DAD-935B-EDCAB320EEAB}"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B56165-1290-45AB-B275-4B080FF3A3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44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4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4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4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4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4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28"/>
          </p:nvPr>
        </p:nvSpPr>
        <p:spPr/>
        <p:txBody>
          <a:bodyPr/>
          <a:p>
            <a:fld id="{14FAE05E-D6CA-4456-9DC0-00B1CADD67A7}"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2"/>
          </p:nvPr>
        </p:nvSpPr>
        <p:spPr/>
        <p:txBody>
          <a:bodyPr/>
          <a:p>
            <a:fld id="{48C76A5D-0D1D-4DEC-B7D9-44B0AB38EA51}"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45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2"/>
          </p:nvPr>
        </p:nvSpPr>
        <p:spPr/>
        <p:txBody>
          <a:bodyPr/>
          <a:p>
            <a:fld id="{3392F152-943B-4368-894B-F7A663A46C8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45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2"/>
          </p:nvPr>
        </p:nvSpPr>
        <p:spPr/>
        <p:txBody>
          <a:bodyPr/>
          <a:p>
            <a:fld id="{56290BC0-2822-4B7F-A981-BB8561E54A5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45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2"/>
          </p:nvPr>
        </p:nvSpPr>
        <p:spPr/>
        <p:txBody>
          <a:bodyPr/>
          <a:p>
            <a:fld id="{7BCD981D-FD1C-4AD4-B41B-E1091C7EF3E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2"/>
          </p:nvPr>
        </p:nvSpPr>
        <p:spPr/>
        <p:txBody>
          <a:bodyPr/>
          <a:p>
            <a:fld id="{8511DF37-C2C7-4E4D-A503-8EEBDF50119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2"/>
          </p:nvPr>
        </p:nvSpPr>
        <p:spPr/>
        <p:txBody>
          <a:bodyPr/>
          <a:p>
            <a:fld id="{60A3E514-D1E8-47E4-8432-C2677DC445F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46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6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6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A77FBBDE-CFD4-48C1-88CF-1A0C88E11F5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46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6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6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05AEA87F-F3B6-4675-99F4-59CB2CA5B2F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47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7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7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3D2D800C-28EC-4FF6-B055-285E6BCB383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34BE38-1059-4A8B-B714-74F6229EC3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47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7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2"/>
          </p:nvPr>
        </p:nvSpPr>
        <p:spPr/>
        <p:txBody>
          <a:bodyPr/>
          <a:p>
            <a:fld id="{FDC86CE6-4A4C-4F38-8073-E5B01E755FD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47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7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7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8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2"/>
          </p:nvPr>
        </p:nvSpPr>
        <p:spPr/>
        <p:txBody>
          <a:bodyPr/>
          <a:p>
            <a:fld id="{E64CC5BB-416D-4376-8646-DF8F80199F4D}"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48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8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8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8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8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8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2"/>
          </p:nvPr>
        </p:nvSpPr>
        <p:spPr/>
        <p:txBody>
          <a:bodyPr/>
          <a:p>
            <a:fld id="{CD4E4849-5061-4304-95A9-08757538A464}"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5"/>
          </p:nvPr>
        </p:nvSpPr>
        <p:spPr/>
        <p:txBody>
          <a:bodyPr/>
          <a:p>
            <a:fld id="{9704243A-109F-40CB-803C-521BA39001CD}"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494"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5"/>
          </p:nvPr>
        </p:nvSpPr>
        <p:spPr/>
        <p:txBody>
          <a:bodyPr/>
          <a:p>
            <a:fld id="{CFE0D4D9-970E-4C5A-A1A0-EC7BB030EFF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496"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5"/>
          </p:nvPr>
        </p:nvSpPr>
        <p:spPr/>
        <p:txBody>
          <a:bodyPr/>
          <a:p>
            <a:fld id="{EF0D963C-8B3F-424D-8AA9-953BA4CA8FE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498"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99"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5"/>
          </p:nvPr>
        </p:nvSpPr>
        <p:spPr/>
        <p:txBody>
          <a:bodyPr/>
          <a:p>
            <a:fld id="{DF16A2A8-B18F-4E28-B0F4-187433E3A5D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5"/>
          </p:nvPr>
        </p:nvSpPr>
        <p:spPr/>
        <p:txBody>
          <a:bodyPr/>
          <a:p>
            <a:fld id="{79A288CC-F795-4752-B375-8E8EC4C17EB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1"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5"/>
          </p:nvPr>
        </p:nvSpPr>
        <p:spPr/>
        <p:txBody>
          <a:bodyPr/>
          <a:p>
            <a:fld id="{E05B667B-A95E-4ECD-A1DF-D081DE78DFE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0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04"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05"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6DE0CA7B-66D5-42E9-B4CA-DFC9449D760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0943A3-C5A4-4950-A2D5-1AB43516E9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0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0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09"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0FAF1020-1A4D-4D12-B270-8DD8D8F7EDD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1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1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13"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45647653-4BB0-4439-BB71-F80CA682914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15"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16"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5"/>
          </p:nvPr>
        </p:nvSpPr>
        <p:spPr/>
        <p:txBody>
          <a:bodyPr/>
          <a:p>
            <a:fld id="{1DD89692-4D00-4581-961B-5A5C298A769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1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1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20"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21"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5"/>
          </p:nvPr>
        </p:nvSpPr>
        <p:spPr/>
        <p:txBody>
          <a:bodyPr/>
          <a:p>
            <a:fld id="{09404D50-74D9-4A57-9527-4F708DFB4FA4}"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23"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24"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25"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26"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27"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28"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5"/>
          </p:nvPr>
        </p:nvSpPr>
        <p:spPr/>
        <p:txBody>
          <a:bodyPr/>
          <a:p>
            <a:fld id="{BEDF2FA8-BE3E-49BD-A05C-CB39E60FA6E6}"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D6AE2D-32B0-42E1-8896-2B2327662C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01ED62-9F44-462F-A5E2-821AA417E8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4BAE95-038E-4E4C-933B-3A9D6A568E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B9FBB7-FAA8-439F-A470-D7FC4BC7FF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B8D53A-F23B-48C7-8AE9-FBC07AEFFC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C46965-AF06-4D3E-9916-83DDA320C8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9A9EE5-611C-42C6-ABA5-452ECCED27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0A8033-7787-4D70-8DCF-A09FCA1281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C1E889-CD5D-4EF3-BFF1-BEE22B28C1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8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FBB7AD-031C-43A3-BB68-2CA203DFFB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8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9C714A-C560-41F7-87DD-65A1ABE404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1B4DF09-09B6-4689-B139-D274FF75BC4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7"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EA10F75-FFFA-44F8-9363-BD970A20C98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9"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7E35713-FB24-4385-8962-4CD2BE6B436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51E90ED-BBC0-4893-A4CE-2A93883D34B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7766EA2-E44C-4F4C-B854-627D711038F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EADCF6-CF64-445F-90C1-6BAF236997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CAD0E39-94AF-49AA-8D37-1C9FD50D0B1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874F27C-B0EE-43DF-B2BD-3C123550955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2"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A7B1B7F-DE35-4856-A32B-3CEC3D71BA3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1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6"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C70A29D-D9CA-4724-849F-7D2C0D21614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18"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9"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8F4B9F2-450B-4FEE-869E-253276C6E45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2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4"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28C05A9-6155-46EE-9686-37C213FA7DC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26"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7"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8"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9"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0"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1"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2AA55EE-ED96-4EEB-978C-B8B06993CAD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4BFDD25-DA7F-4FC6-9EA1-AAC1448074F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4891C39-E66B-493C-AB03-0CF52968EAE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4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ADCA353-552D-412F-A474-3AA7091F6D4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B818D1-48F1-49B4-8134-832A870DF9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4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18CECBB-54B1-4E90-B0A6-AB86BD65813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BB89FA1-F249-403D-8869-CC7717202FE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2EC935B-5735-43ED-B0F6-C7CC1659F66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4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549558B-4886-4A78-8CB9-AD6E2ECAA4F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4956D8D-2BE4-4D30-85AA-AF4F9E978F3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7C75636-4E4B-4279-9F0B-135C2D07B50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5876629-2D84-433E-BE13-0C9CC79405C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6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EA96147-A939-491C-9C59-16B1F6180CB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6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0DD7806-3AEA-40DC-8F66-B6BDE367184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2A101F8-580F-4CBE-9C80-E9C850E44E1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3ADFEB-0AFF-44BA-AE7A-7DE829D5FF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8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4E58E4C-68B7-491A-A3A4-A5C203FF348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9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05CF20F-5B1B-4DCC-9529-7D2BAC1D932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9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AF272DD-6F85-4430-94C9-D66F036CD23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6C89D69-4B5E-41DC-A989-FCC898F853F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7B7E2A3-90D7-4877-B3B2-1EC8B03E9BE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34B8C35-F82A-449E-9653-E71E9E9297A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0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492F0AD-08CB-45D1-B23F-92AB577CB96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0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23F799A-D568-4C37-96DA-F0C73F5DA5A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0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1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357BA05-DEC2-4F0B-B085-EE47F61E9B1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1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1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1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1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9E47E95-6081-42F5-A695-172CB0B210F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3CFC2A-3A4D-4613-B4E6-8EA9BAB67A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1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1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1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2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2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2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482D16D-D559-449E-BB6B-700D013FEB2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0F61B99-7DD3-4069-AFFC-EDFA1F824B3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3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6673A69-115B-44BF-9FFD-C0180C4E091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4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FC708D8-5CEE-4C7B-A537-CFDF0E6462C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4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BAEE176-17A5-4173-9F49-26C548AFBB1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5AB7E79-2BC2-4DA0-8DB7-1AF73A05551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7A662C1-15F6-435E-ACBB-0C47148EDE3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4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7473773-B2A2-4B43-920B-EA95CC77210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5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7F0E918-DD62-44B6-AB0E-BCEC77A0802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5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37B40C9-CC46-46B0-B4D1-1266D898510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8C78B0-3E3E-46B3-A777-E2B84DBDCB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5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6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3A59ECE-9037-4270-A1BA-A75EC7AF553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6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6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6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6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B63174D-2263-4864-8F3F-2974EDCADC8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6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6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6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7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7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7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6B09541-FE48-467C-B714-1056DC451D2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34FE808-9F5A-4521-936B-0334E2361F0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8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E441C18-A8EC-4487-B5D5-5A0BED069A2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8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5535FA0-56BF-45CE-A4D3-94ACB84115E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8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8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8D8BA60-AA15-403F-924B-584CB9A4CD8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42272B0-7BA5-4CE2-A981-85C729BDAAF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8656D56-9A15-4C7C-8160-71AA083DF58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9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9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9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DEE0B98-8C82-4ADE-B450-CCC57C08252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FFC014-3638-4AA9-9295-64DD7A6FF9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9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9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9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E71C347-154C-44B8-8594-B7894DF2001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0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0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4D4B49F-6CE6-46B9-8A35-6B072C24E27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0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0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C004816-5DD7-4320-B2A2-39583134494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0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0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0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1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FDE64EA-533B-496A-A982-7ECDFDE1780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1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1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1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1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1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1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69E1AC2-16DF-4B00-A833-15774B4DB94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3"/>
          </p:nvPr>
        </p:nvSpPr>
        <p:spPr/>
        <p:txBody>
          <a:bodyPr/>
          <a:p>
            <a:fld id="{54B738BF-7D8E-4790-86ED-9C9405040C9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27"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AE077633-EFE8-4D66-94DD-CAA3142DAAA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29"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C398A9D6-F770-4A8D-8D95-3ADE5FABB5C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3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6B2B7F35-C7E9-4A08-93B9-E0AA5E29173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BD2A8C5E-8DAD-4D60-9BEF-44EFDD0B7D6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60ABB2-D56B-4214-9D5E-6B05BC78A7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4"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A3D2F04E-FD9C-49A7-886C-A7935453B0B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3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BA234B14-234F-4CE0-9957-046072FB0C6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4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4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42"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2AF20C25-A65A-475C-84CF-2A528A7CC4D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4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4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46"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078690F0-A1EC-4F03-BA05-A834CC61C69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48"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49"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317EA65D-B959-4B1E-8116-851C48C6FD3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5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5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5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54"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3"/>
          </p:nvPr>
        </p:nvSpPr>
        <p:spPr/>
        <p:txBody>
          <a:bodyPr/>
          <a:p>
            <a:fld id="{44A68BFF-8146-401C-B6B1-7FA4738F7FC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56"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57"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58"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59"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60"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61"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3"/>
          </p:nvPr>
        </p:nvSpPr>
        <p:spPr/>
        <p:txBody>
          <a:bodyPr/>
          <a:p>
            <a:fld id="{8E0D6C40-5C3C-4FFA-B531-F4B0980BF9B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844E466-EE1E-411E-B895-EBD7EF9EDFE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69"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CCAC957-8209-41F1-B579-2FB7A14861E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71"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8142F3C-E6E7-489B-A829-1C171BFE2E51}"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5.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5.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5.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image" Target="../media/image4.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image" Target="../media/image4.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5.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bcbcb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46B8F-0817-4815-9E26-D3984208564D}" type="slidenum">
              <a:rPr b="0" lang="en-AU" sz="1200" spc="-1" strike="noStrike">
                <a:solidFill>
                  <a:srgbClr val="bcbcb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4" name="Straight Connector 6"/>
          <p:cNvSpPr/>
          <p:nvPr/>
        </p:nvSpPr>
        <p:spPr>
          <a:xfrm>
            <a:off x="563400" y="2179800"/>
            <a:ext cx="3748320" cy="1440"/>
          </a:xfrm>
          <a:prstGeom prst="line">
            <a:avLst/>
          </a:prstGeom>
          <a:ln w="12600">
            <a:solidFill>
              <a:srgbClr val="e9e9e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05" name="Straight Connector 7"/>
          <p:cNvSpPr/>
          <p:nvPr/>
        </p:nvSpPr>
        <p:spPr>
          <a:xfrm>
            <a:off x="4754520" y="2179800"/>
            <a:ext cx="3749760" cy="1440"/>
          </a:xfrm>
          <a:prstGeom prst="line">
            <a:avLst/>
          </a:prstGeom>
          <a:ln w="12600">
            <a:solidFill>
              <a:srgbClr val="e9e9e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0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40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408" name="PlaceHolder 3"/>
          <p:cNvSpPr>
            <a:spLocks noGrp="1"/>
          </p:cNvSpPr>
          <p:nvPr>
            <p:ph type="sldNum" idx="28"/>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600" spc="-1" strike="noStrike">
                <a:solidFill>
                  <a:srgbClr val="fefa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A5B24-CCA7-4BA8-9156-7ED4D5B038A2}" type="slidenum">
              <a:rPr b="0" lang="en-AU" sz="1600" spc="-1" strike="noStrike">
                <a:solidFill>
                  <a:srgbClr val="fefac9"/>
                </a:solidFill>
                <a:latin typeface="Times New Roman"/>
              </a:rPr>
              <a:t>&lt;number&gt;</a:t>
            </a:fld>
            <a:endParaRPr b="0" lang="en-US" sz="1600" spc="-1" strike="noStrike">
              <a:solidFill>
                <a:srgbClr val="000000"/>
              </a:solidFill>
              <a:latin typeface="Times New Roman"/>
            </a:endParaRPr>
          </a:p>
        </p:txBody>
      </p:sp>
      <p:sp>
        <p:nvSpPr>
          <p:cNvPr id="409" name="PlaceHolder 4"/>
          <p:cNvSpPr>
            <a:spLocks noGrp="1"/>
          </p:cNvSpPr>
          <p:nvPr>
            <p:ph type="ftr" idx="29"/>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0" name="PlaceHolder 5"/>
          <p:cNvSpPr>
            <a:spLocks noGrp="1"/>
          </p:cNvSpPr>
          <p:nvPr>
            <p:ph type="dt" idx="30"/>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44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449" name="PlaceHolder 3"/>
          <p:cNvSpPr>
            <a:spLocks noGrp="1"/>
          </p:cNvSpPr>
          <p:nvPr>
            <p:ph type="dt" idx="31"/>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Times New Roman"/>
              </a:rPr>
              <a:t>&lt;date/time&gt;</a:t>
            </a:r>
            <a:endParaRPr b="0" lang="en-US" sz="1200" spc="-1" strike="noStrike">
              <a:solidFill>
                <a:srgbClr val="000000"/>
              </a:solidFill>
              <a:latin typeface="Times New Roman"/>
            </a:endParaRPr>
          </a:p>
        </p:txBody>
      </p:sp>
      <p:sp>
        <p:nvSpPr>
          <p:cNvPr id="450" name="PlaceHolder 4"/>
          <p:cNvSpPr>
            <a:spLocks noGrp="1"/>
          </p:cNvSpPr>
          <p:nvPr>
            <p:ph type="sldNum" idx="32"/>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600" spc="-1" strike="noStrike">
                <a:solidFill>
                  <a:srgbClr val="fefa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FA624-8858-40C4-9781-EAD4BCEFD862}" type="slidenum">
              <a:rPr b="0" lang="en-AU" sz="1600" spc="-1" strike="noStrike">
                <a:solidFill>
                  <a:srgbClr val="fefac9"/>
                </a:solidFill>
                <a:latin typeface="Times New Roman"/>
              </a:rPr>
              <a:t>&lt;number&gt;</a:t>
            </a:fld>
            <a:endParaRPr b="0" lang="en-US" sz="1600" spc="-1" strike="noStrike">
              <a:solidFill>
                <a:srgbClr val="000000"/>
              </a:solidFill>
              <a:latin typeface="Times New Roman"/>
            </a:endParaRPr>
          </a:p>
        </p:txBody>
      </p:sp>
      <p:sp>
        <p:nvSpPr>
          <p:cNvPr id="451" name="PlaceHolder 5"/>
          <p:cNvSpPr>
            <a:spLocks noGrp="1"/>
          </p:cNvSpPr>
          <p:nvPr>
            <p:ph type="ftr" idx="33"/>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8"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489"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490" name="PlaceHolder 3"/>
          <p:cNvSpPr>
            <a:spLocks noGrp="1"/>
          </p:cNvSpPr>
          <p:nvPr>
            <p:ph type="dt" idx="34"/>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Times New Roman"/>
              </a:rPr>
              <a:t>&lt;date/time&gt;</a:t>
            </a:r>
            <a:endParaRPr b="0" lang="en-US" sz="1200" spc="-1" strike="noStrike">
              <a:solidFill>
                <a:srgbClr val="000000"/>
              </a:solidFill>
              <a:latin typeface="Times New Roman"/>
            </a:endParaRPr>
          </a:p>
        </p:txBody>
      </p:sp>
      <p:sp>
        <p:nvSpPr>
          <p:cNvPr id="491" name="PlaceHolder 4"/>
          <p:cNvSpPr>
            <a:spLocks noGrp="1"/>
          </p:cNvSpPr>
          <p:nvPr>
            <p:ph type="sldNum" idx="35"/>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600" spc="-1" strike="noStrike">
                <a:solidFill>
                  <a:srgbClr val="fefa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3C48B-6642-4BEA-9DEC-115B25727F7B}" type="slidenum">
              <a:rPr b="0" lang="en-AU" sz="1600" spc="-1" strike="noStrike">
                <a:solidFill>
                  <a:srgbClr val="fefac9"/>
                </a:solidFill>
                <a:latin typeface="Times New Roman"/>
              </a:rPr>
              <a:t>&lt;number&gt;</a:t>
            </a:fld>
            <a:endParaRPr b="0" lang="en-US" sz="1600" spc="-1" strike="noStrike">
              <a:solidFill>
                <a:srgbClr val="000000"/>
              </a:solidFill>
              <a:latin typeface="Times New Roman"/>
            </a:endParaRPr>
          </a:p>
        </p:txBody>
      </p:sp>
      <p:sp>
        <p:nvSpPr>
          <p:cNvPr id="492" name="PlaceHolder 5"/>
          <p:cNvSpPr>
            <a:spLocks noGrp="1"/>
          </p:cNvSpPr>
          <p:nvPr>
            <p:ph type="ftr" idx="36"/>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4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5"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962F1-EE7D-45B8-93F5-DA3FAC882A33}" type="slidenum">
              <a:rPr b="0" lang="en-AU"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48" name="Group 1"/>
          <p:cNvGrpSpPr/>
          <p:nvPr/>
        </p:nvGrpSpPr>
        <p:grpSpPr>
          <a:xfrm>
            <a:off x="-19080" y="203040"/>
            <a:ext cx="9181080" cy="648000"/>
            <a:chOff x="-19080" y="203040"/>
            <a:chExt cx="9181080" cy="648000"/>
          </a:xfrm>
        </p:grpSpPr>
        <p:grpSp>
          <p:nvGrpSpPr>
            <p:cNvPr id="49" name="Freeform 11"/>
            <p:cNvGrpSpPr/>
            <p:nvPr/>
          </p:nvGrpSpPr>
          <p:grpSpPr>
            <a:xfrm>
              <a:off x="-19080" y="203040"/>
              <a:ext cx="9162720" cy="648000"/>
              <a:chOff x="-19080" y="203040"/>
              <a:chExt cx="9162720" cy="648000"/>
            </a:xfrm>
          </p:grpSpPr>
          <p:pic>
            <p:nvPicPr>
              <p:cNvPr id="50" name="Freeform 11" descr=""/>
              <p:cNvPicPr/>
              <p:nvPr/>
            </p:nvPicPr>
            <p:blipFill>
              <a:blip r:embed="rId3"/>
              <a:stretch/>
            </p:blipFill>
            <p:spPr>
              <a:xfrm>
                <a:off x="3960" y="203040"/>
                <a:ext cx="9139680" cy="648000"/>
              </a:xfrm>
              <a:prstGeom prst="rect">
                <a:avLst/>
              </a:prstGeom>
              <a:ln w="0">
                <a:noFill/>
              </a:ln>
            </p:spPr>
          </p:pic>
          <p:sp>
            <p:nvSpPr>
              <p:cNvPr id="51"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Freeform 12"/>
            <p:cNvGrpSpPr/>
            <p:nvPr/>
          </p:nvGrpSpPr>
          <p:grpSpPr>
            <a:xfrm>
              <a:off x="-19080" y="248040"/>
              <a:ext cx="9181080" cy="565200"/>
              <a:chOff x="-19080" y="248040"/>
              <a:chExt cx="9181080" cy="565200"/>
            </a:xfrm>
          </p:grpSpPr>
          <p:pic>
            <p:nvPicPr>
              <p:cNvPr id="53" name="Freeform 12" descr=""/>
              <p:cNvPicPr/>
              <p:nvPr/>
            </p:nvPicPr>
            <p:blipFill>
              <a:blip r:embed="rId4"/>
              <a:stretch/>
            </p:blipFill>
            <p:spPr>
              <a:xfrm>
                <a:off x="-3240" y="248040"/>
                <a:ext cx="9165240" cy="565200"/>
              </a:xfrm>
              <a:prstGeom prst="rect">
                <a:avLst/>
              </a:prstGeom>
              <a:ln w="0">
                <a:noFill/>
              </a:ln>
            </p:spPr>
          </p:pic>
          <p:sp>
            <p:nvSpPr>
              <p:cNvPr id="54"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1"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92" name="PlaceHolder 2"/>
          <p:cNvSpPr>
            <a:spLocks noGrp="1"/>
          </p:cNvSpPr>
          <p:nvPr>
            <p:ph type="dt" idx="7"/>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Times New Roman"/>
              </a:rPr>
              <a:t>&lt;date/time&gt;</a:t>
            </a:r>
            <a:endParaRPr b="0" lang="en-US" sz="1200" spc="-1" strike="noStrike">
              <a:solidFill>
                <a:srgbClr val="000000"/>
              </a:solidFill>
              <a:latin typeface="Times New Roman"/>
            </a:endParaRPr>
          </a:p>
        </p:txBody>
      </p:sp>
      <p:sp>
        <p:nvSpPr>
          <p:cNvPr id="93" name="PlaceHolder 3"/>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PlaceHolder 4"/>
          <p:cNvSpPr>
            <a:spLocks noGrp="1"/>
          </p:cNvSpPr>
          <p:nvPr>
            <p:ph type="sldNum" idx="9"/>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600" spc="-1" strike="noStrike">
                <a:solidFill>
                  <a:srgbClr val="fefa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0D35C-227B-4857-B2AE-1EDA40DCF05D}" type="slidenum">
              <a:rPr b="0" lang="en-AU" sz="1600" spc="-1" strike="noStrike">
                <a:solidFill>
                  <a:srgbClr val="fefac9"/>
                </a:solidFill>
                <a:latin typeface="Times New Roman"/>
              </a:rPr>
              <a:t>&lt;number&gt;</a:t>
            </a:fld>
            <a:endParaRPr b="0" lang="en-US" sz="1600" spc="-1" strike="noStrike">
              <a:solidFill>
                <a:srgbClr val="000000"/>
              </a:solidFill>
              <a:latin typeface="Times New Roman"/>
            </a:endParaRPr>
          </a:p>
        </p:txBody>
      </p:sp>
      <p:sp>
        <p:nvSpPr>
          <p:cNvPr id="95"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133"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134" name="PlaceHolder 3"/>
          <p:cNvSpPr>
            <a:spLocks noGrp="1"/>
          </p:cNvSpPr>
          <p:nvPr>
            <p:ph type="dt" idx="10"/>
          </p:nvPr>
        </p:nvSpPr>
        <p:spPr>
          <a:xfrm>
            <a:off x="456840" y="6416640"/>
            <a:ext cx="21337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Times New Roman"/>
              </a:rPr>
              <a:t>&lt;date/time&gt;</a:t>
            </a:r>
            <a:endParaRPr b="0" lang="en-US" sz="1200" spc="-1" strike="noStrike">
              <a:solidFill>
                <a:srgbClr val="000000"/>
              </a:solidFill>
              <a:latin typeface="Times New Roman"/>
            </a:endParaRPr>
          </a:p>
        </p:txBody>
      </p:sp>
      <p:sp>
        <p:nvSpPr>
          <p:cNvPr id="135" name="PlaceHolder 4"/>
          <p:cNvSpPr>
            <a:spLocks noGrp="1"/>
          </p:cNvSpPr>
          <p:nvPr>
            <p:ph type="ftr" idx="11"/>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PlaceHolder 5"/>
          <p:cNvSpPr>
            <a:spLocks noGrp="1"/>
          </p:cNvSpPr>
          <p:nvPr>
            <p:ph type="sldNum" idx="12"/>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bcbcb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B39FE-2C00-45F2-8E4D-9CD3EBAE8A79}" type="slidenum">
              <a:rPr b="0" lang="en-AU" sz="1200" spc="-1" strike="noStrike">
                <a:solidFill>
                  <a:srgbClr val="bcbcb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3"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75" name="Group 1"/>
          <p:cNvGrpSpPr/>
          <p:nvPr/>
        </p:nvGrpSpPr>
        <p:grpSpPr>
          <a:xfrm>
            <a:off x="-19080" y="203040"/>
            <a:ext cx="9181080" cy="648000"/>
            <a:chOff x="-19080" y="203040"/>
            <a:chExt cx="9181080" cy="648000"/>
          </a:xfrm>
        </p:grpSpPr>
        <p:grpSp>
          <p:nvGrpSpPr>
            <p:cNvPr id="176" name="Freeform 11"/>
            <p:cNvGrpSpPr/>
            <p:nvPr/>
          </p:nvGrpSpPr>
          <p:grpSpPr>
            <a:xfrm>
              <a:off x="-19080" y="203040"/>
              <a:ext cx="9162720" cy="648000"/>
              <a:chOff x="-19080" y="203040"/>
              <a:chExt cx="9162720" cy="648000"/>
            </a:xfrm>
          </p:grpSpPr>
          <p:pic>
            <p:nvPicPr>
              <p:cNvPr id="177" name="Freeform 11" descr=""/>
              <p:cNvPicPr/>
              <p:nvPr/>
            </p:nvPicPr>
            <p:blipFill>
              <a:blip r:embed="rId3"/>
              <a:stretch/>
            </p:blipFill>
            <p:spPr>
              <a:xfrm>
                <a:off x="3960" y="203040"/>
                <a:ext cx="9139680" cy="648000"/>
              </a:xfrm>
              <a:prstGeom prst="rect">
                <a:avLst/>
              </a:prstGeom>
              <a:ln w="0">
                <a:noFill/>
              </a:ln>
            </p:spPr>
          </p:pic>
          <p:sp>
            <p:nvSpPr>
              <p:cNvPr id="178"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79" name="Freeform 12"/>
            <p:cNvGrpSpPr/>
            <p:nvPr/>
          </p:nvGrpSpPr>
          <p:grpSpPr>
            <a:xfrm>
              <a:off x="-19080" y="248040"/>
              <a:ext cx="9181080" cy="565200"/>
              <a:chOff x="-19080" y="248040"/>
              <a:chExt cx="9181080" cy="565200"/>
            </a:xfrm>
          </p:grpSpPr>
          <p:pic>
            <p:nvPicPr>
              <p:cNvPr id="180" name="Freeform 12" descr=""/>
              <p:cNvPicPr/>
              <p:nvPr/>
            </p:nvPicPr>
            <p:blipFill>
              <a:blip r:embed="rId4"/>
              <a:stretch/>
            </p:blipFill>
            <p:spPr>
              <a:xfrm>
                <a:off x="-3240" y="248040"/>
                <a:ext cx="9165240" cy="565200"/>
              </a:xfrm>
              <a:prstGeom prst="rect">
                <a:avLst/>
              </a:prstGeom>
              <a:ln w="0">
                <a:noFill/>
              </a:ln>
            </p:spPr>
          </p:pic>
          <p:sp>
            <p:nvSpPr>
              <p:cNvPr id="181"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1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8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84" name="PlaceHolder 3"/>
          <p:cNvSpPr>
            <a:spLocks noGrp="1"/>
          </p:cNvSpPr>
          <p:nvPr>
            <p:ph type="dt" idx="13"/>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85" name="PlaceHolder 4"/>
          <p:cNvSpPr>
            <a:spLocks noGrp="1"/>
          </p:cNvSpPr>
          <p:nvPr>
            <p:ph type="ftr" idx="14"/>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6" name="PlaceHolder 5"/>
          <p:cNvSpPr>
            <a:spLocks noGrp="1"/>
          </p:cNvSpPr>
          <p:nvPr>
            <p:ph type="sldNum" idx="15"/>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1DEDD-4220-45DB-9259-B7AC28C6FA07}" type="slidenum">
              <a:rPr b="0" lang="en-AU"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3"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4"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25" name="Group 1"/>
          <p:cNvGrpSpPr/>
          <p:nvPr/>
        </p:nvGrpSpPr>
        <p:grpSpPr>
          <a:xfrm>
            <a:off x="-19080" y="203040"/>
            <a:ext cx="9181080" cy="648000"/>
            <a:chOff x="-19080" y="203040"/>
            <a:chExt cx="9181080" cy="648000"/>
          </a:xfrm>
        </p:grpSpPr>
        <p:grpSp>
          <p:nvGrpSpPr>
            <p:cNvPr id="226" name="Freeform 11"/>
            <p:cNvGrpSpPr/>
            <p:nvPr/>
          </p:nvGrpSpPr>
          <p:grpSpPr>
            <a:xfrm>
              <a:off x="-19080" y="203040"/>
              <a:ext cx="9162720" cy="648000"/>
              <a:chOff x="-19080" y="203040"/>
              <a:chExt cx="9162720" cy="648000"/>
            </a:xfrm>
          </p:grpSpPr>
          <p:pic>
            <p:nvPicPr>
              <p:cNvPr id="227" name="Freeform 11" descr=""/>
              <p:cNvPicPr/>
              <p:nvPr/>
            </p:nvPicPr>
            <p:blipFill>
              <a:blip r:embed="rId3"/>
              <a:stretch/>
            </p:blipFill>
            <p:spPr>
              <a:xfrm>
                <a:off x="3960" y="203040"/>
                <a:ext cx="9139680" cy="648000"/>
              </a:xfrm>
              <a:prstGeom prst="rect">
                <a:avLst/>
              </a:prstGeom>
              <a:ln w="0">
                <a:noFill/>
              </a:ln>
            </p:spPr>
          </p:pic>
          <p:sp>
            <p:nvSpPr>
              <p:cNvPr id="228"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29" name="Freeform 12"/>
            <p:cNvGrpSpPr/>
            <p:nvPr/>
          </p:nvGrpSpPr>
          <p:grpSpPr>
            <a:xfrm>
              <a:off x="-19080" y="248040"/>
              <a:ext cx="9181080" cy="565200"/>
              <a:chOff x="-19080" y="248040"/>
              <a:chExt cx="9181080" cy="565200"/>
            </a:xfrm>
          </p:grpSpPr>
          <p:pic>
            <p:nvPicPr>
              <p:cNvPr id="230" name="Freeform 12" descr=""/>
              <p:cNvPicPr/>
              <p:nvPr/>
            </p:nvPicPr>
            <p:blipFill>
              <a:blip r:embed="rId4"/>
              <a:stretch/>
            </p:blipFill>
            <p:spPr>
              <a:xfrm>
                <a:off x="-3240" y="248040"/>
                <a:ext cx="9165240" cy="565200"/>
              </a:xfrm>
              <a:prstGeom prst="rect">
                <a:avLst/>
              </a:prstGeom>
              <a:ln w="0">
                <a:noFill/>
              </a:ln>
            </p:spPr>
          </p:pic>
          <p:sp>
            <p:nvSpPr>
              <p:cNvPr id="231"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2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23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234" name="PlaceHolder 3"/>
          <p:cNvSpPr>
            <a:spLocks noGrp="1"/>
          </p:cNvSpPr>
          <p:nvPr>
            <p:ph type="dt" idx="16"/>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235" name="PlaceHolder 4"/>
          <p:cNvSpPr>
            <a:spLocks noGrp="1"/>
          </p:cNvSpPr>
          <p:nvPr>
            <p:ph type="ftr" idx="17"/>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6" name="PlaceHolder 5"/>
          <p:cNvSpPr>
            <a:spLocks noGrp="1"/>
          </p:cNvSpPr>
          <p:nvPr>
            <p:ph type="sldNum" idx="18"/>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654C6-ACFB-434C-B04B-E890EB0F81F0}" type="slidenum">
              <a:rPr b="0" lang="en-AU"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7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79" name="PlaceHolder 3"/>
          <p:cNvSpPr>
            <a:spLocks noGrp="1"/>
          </p:cNvSpPr>
          <p:nvPr>
            <p:ph type="dt" idx="19"/>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280" name="PlaceHolder 4"/>
          <p:cNvSpPr>
            <a:spLocks noGrp="1"/>
          </p:cNvSpPr>
          <p:nvPr>
            <p:ph type="ftr" idx="20"/>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PlaceHolder 5"/>
          <p:cNvSpPr>
            <a:spLocks noGrp="1"/>
          </p:cNvSpPr>
          <p:nvPr>
            <p:ph type="sldNum" idx="21"/>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31045-7702-44A6-8583-2D288A774DF7}" type="slidenum">
              <a:rPr b="0" lang="en-AU"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8" name="Straight Connector 6"/>
          <p:cNvSpPr/>
          <p:nvPr/>
        </p:nvSpPr>
        <p:spPr>
          <a:xfrm>
            <a:off x="1463760" y="3549600"/>
            <a:ext cx="2971800" cy="1800"/>
          </a:xfrm>
          <a:prstGeom prst="line">
            <a:avLst/>
          </a:prstGeom>
          <a:ln w="9360">
            <a:solidFill>
              <a:srgbClr val="e9e9e8"/>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19" name="Straight Connector 7"/>
          <p:cNvSpPr/>
          <p:nvPr/>
        </p:nvSpPr>
        <p:spPr>
          <a:xfrm>
            <a:off x="4708440" y="3549600"/>
            <a:ext cx="2971800" cy="1800"/>
          </a:xfrm>
          <a:prstGeom prst="line">
            <a:avLst/>
          </a:prstGeom>
          <a:ln w="9360">
            <a:solidFill>
              <a:srgbClr val="e9e9e8"/>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20" name="Oval 10"/>
          <p:cNvSpPr/>
          <p:nvPr/>
        </p:nvSpPr>
        <p:spPr>
          <a:xfrm>
            <a:off x="4540320" y="3525840"/>
            <a:ext cx="46080" cy="46080"/>
          </a:xfrm>
          <a:prstGeom prst="ellipse">
            <a:avLst/>
          </a:prstGeom>
          <a:solidFill>
            <a:srgbClr val="f3a447"/>
          </a:solidFill>
          <a:ln w="38160">
            <a:solidFill>
              <a:srgbClr val="f3a447"/>
            </a:solidFill>
            <a:miter/>
          </a:ln>
          <a:effectLst>
            <a:outerShdw dist="0" dir="0" blurRad="0" rotWithShape="0">
              <a:srgbClr val="000000">
                <a:alpha val="55000"/>
              </a:srgbClr>
            </a:outerShdw>
          </a:effectLst>
        </p:spPr>
        <p:style>
          <a:lnRef idx="0"/>
          <a:fillRef idx="0"/>
          <a:effectRef idx="0"/>
          <a:fontRef idx="minor"/>
        </p:style>
        <p:txBody>
          <a:bodyPr lIns="90000" rIns="90000" tIns="-13680" bIns="-13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1"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322"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323" name="PlaceHolder 3"/>
          <p:cNvSpPr>
            <a:spLocks noGrp="1"/>
          </p:cNvSpPr>
          <p:nvPr>
            <p:ph type="dt" idx="22"/>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Times New Roman"/>
              </a:rPr>
              <a:t>&lt;date/time&gt;</a:t>
            </a:r>
            <a:endParaRPr b="0" lang="en-US" sz="1200" spc="-1" strike="noStrike">
              <a:solidFill>
                <a:srgbClr val="000000"/>
              </a:solidFill>
              <a:latin typeface="Times New Roman"/>
            </a:endParaRPr>
          </a:p>
        </p:txBody>
      </p:sp>
      <p:sp>
        <p:nvSpPr>
          <p:cNvPr id="324" name="PlaceHolder 4"/>
          <p:cNvSpPr>
            <a:spLocks noGrp="1"/>
          </p:cNvSpPr>
          <p:nvPr>
            <p:ph type="sldNum" idx="2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600" spc="-1" strike="noStrike">
                <a:solidFill>
                  <a:srgbClr val="fefa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619C9-291C-43AE-80FE-BF0111034D22}" type="slidenum">
              <a:rPr b="0" lang="en-AU" sz="1600" spc="-1" strike="noStrike">
                <a:solidFill>
                  <a:srgbClr val="fefac9"/>
                </a:solidFill>
                <a:latin typeface="Times New Roman"/>
              </a:rPr>
              <a:t>&lt;number&gt;</a:t>
            </a:fld>
            <a:endParaRPr b="0" lang="en-US" sz="1600" spc="-1" strike="noStrike">
              <a:solidFill>
                <a:srgbClr val="000000"/>
              </a:solidFill>
              <a:latin typeface="Times New Roman"/>
            </a:endParaRPr>
          </a:p>
        </p:txBody>
      </p:sp>
      <p:sp>
        <p:nvSpPr>
          <p:cNvPr id="325" name="PlaceHolder 5"/>
          <p:cNvSpPr>
            <a:spLocks noGrp="1"/>
          </p:cNvSpPr>
          <p:nvPr>
            <p:ph type="ftr" idx="24"/>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2"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363"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364"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365" name="PlaceHolder 3"/>
          <p:cNvSpPr>
            <a:spLocks noGrp="1"/>
          </p:cNvSpPr>
          <p:nvPr>
            <p:ph type="dt" idx="25"/>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Times New Roman"/>
              </a:rPr>
              <a:t>&lt;date/time&gt;</a:t>
            </a:r>
            <a:endParaRPr b="0" lang="en-US" sz="1200" spc="-1" strike="noStrike">
              <a:solidFill>
                <a:srgbClr val="000000"/>
              </a:solidFill>
              <a:latin typeface="Times New Roman"/>
            </a:endParaRPr>
          </a:p>
        </p:txBody>
      </p:sp>
      <p:sp>
        <p:nvSpPr>
          <p:cNvPr id="366" name="PlaceHolder 4"/>
          <p:cNvSpPr>
            <a:spLocks noGrp="1"/>
          </p:cNvSpPr>
          <p:nvPr>
            <p:ph type="ftr" idx="26"/>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7" name="PlaceHolder 5"/>
          <p:cNvSpPr>
            <a:spLocks noGrp="1"/>
          </p:cNvSpPr>
          <p:nvPr>
            <p:ph type="sldNum" idx="2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600" spc="-1" strike="noStrike">
                <a:solidFill>
                  <a:srgbClr val="fefa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28CB2-1F15-4AF5-83F2-19B9E03194A1}" type="slidenum">
              <a:rPr b="0" lang="en-AU" sz="1600" spc="-1" strike="noStrike">
                <a:solidFill>
                  <a:srgbClr val="fefac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gif"/><Relationship Id="rId3"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9" name="Title 1" descr=""/>
          <p:cNvPicPr/>
          <p:nvPr/>
        </p:nvPicPr>
        <p:blipFill>
          <a:blip r:embed="rId1"/>
          <a:stretch/>
        </p:blipFill>
        <p:spPr>
          <a:xfrm>
            <a:off x="2610000" y="781200"/>
            <a:ext cx="4138560" cy="1285560"/>
          </a:xfrm>
          <a:prstGeom prst="rect">
            <a:avLst/>
          </a:prstGeom>
          <a:ln w="0">
            <a:noFill/>
          </a:ln>
        </p:spPr>
      </p:pic>
      <p:pic>
        <p:nvPicPr>
          <p:cNvPr id="530" name="Picture 4" descr="C:\Program Files\Microsoft Office\Media\CntCD1\Animated\j0282880.gif"/>
          <p:cNvPicPr/>
          <p:nvPr/>
        </p:nvPicPr>
        <p:blipFill>
          <a:blip r:embed="rId2"/>
          <a:stretch/>
        </p:blipFill>
        <p:spPr>
          <a:xfrm>
            <a:off x="2000160" y="1928880"/>
            <a:ext cx="5234040" cy="3936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
          <p:cNvSpPr txBox="1"/>
          <p:nvPr/>
        </p:nvSpPr>
        <p:spPr>
          <a:xfrm>
            <a:off x="0" y="1213920"/>
            <a:ext cx="9144000" cy="5643720"/>
          </a:xfrm>
          <a:prstGeom prst="rect">
            <a:avLst/>
          </a:prstGeom>
          <a:noFill/>
          <a:ln w="0">
            <a:noFill/>
          </a:ln>
        </p:spPr>
        <p:txBody>
          <a:bodyPr lIns="90000" rIns="90000" tIns="46800" bIns="46800" anchor="t">
            <a:normAutofit/>
          </a:bodyPr>
          <a:p>
            <a:pPr marL="272880" indent="-272880">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70c0"/>
                </a:solidFill>
                <a:latin typeface="Constantia"/>
              </a:rPr>
              <a:t>The river was a major food source.</a:t>
            </a:r>
            <a:endParaRPr b="0" lang="en-US" sz="4400" spc="-1" strike="noStrike">
              <a:solidFill>
                <a:srgbClr val="000000"/>
              </a:solidFill>
              <a:latin typeface="Constantia"/>
            </a:endParaRPr>
          </a:p>
          <a:p>
            <a:pPr marL="272880" indent="-272880">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70c0"/>
                </a:solidFill>
                <a:latin typeface="Constantia"/>
              </a:rPr>
              <a:t>On its journey through Melbourne and to Port Phillip, it supplies 9 catchment dams and provides drinking water to about 2.6 million households.</a:t>
            </a:r>
            <a:endParaRPr b="0" lang="en-US" sz="4400" spc="-1" strike="noStrike">
              <a:solidFill>
                <a:srgbClr val="000000"/>
              </a:solidFill>
              <a:latin typeface="Constantia"/>
            </a:endParaRPr>
          </a:p>
          <a:p>
            <a:pPr marL="272880" indent="-272880">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a:p>
            <a:pPr marL="272880" indent="-2728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
          <p:cNvSpPr txBox="1"/>
          <p:nvPr/>
        </p:nvSpPr>
        <p:spPr>
          <a:xfrm>
            <a:off x="0" y="2071440"/>
            <a:ext cx="9144000" cy="4786200"/>
          </a:xfrm>
          <a:prstGeom prst="rect">
            <a:avLst/>
          </a:prstGeom>
          <a:noFill/>
          <a:ln w="0">
            <a:noFill/>
          </a:ln>
        </p:spPr>
        <p:txBody>
          <a:bodyPr lIns="90000" rIns="90000" tIns="46800" bIns="46800" anchor="t">
            <a:normAutofit fontScale="96000"/>
          </a:bodyPr>
          <a:p>
            <a:pPr marL="525600" indent="-39456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70c0"/>
                </a:solidFill>
                <a:latin typeface="Book Antiqua"/>
              </a:rPr>
              <a:t>It was a big spot because of the train station and public transport. Flinders Street Railway Station stands at the corner of Flinders and Swanston Streets Melbourne and is the oldest city station in Australia, built in 1854.</a:t>
            </a:r>
            <a:r>
              <a:rPr b="1" lang="en-AU" sz="4400" spc="-1" strike="noStrike">
                <a:solidFill>
                  <a:srgbClr val="ffffff"/>
                </a:solidFill>
                <a:latin typeface="Book Antiqua"/>
              </a:rPr>
              <a:t> </a:t>
            </a:r>
            <a:endParaRPr b="0" lang="en-US" sz="4400" spc="-1" strike="noStrike">
              <a:solidFill>
                <a:srgbClr val="ffffff"/>
              </a:solidFill>
              <a:latin typeface="Book Antiqua"/>
            </a:endParaRPr>
          </a:p>
          <a:p>
            <a:pPr marL="525600" indent="-39456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Book Antiqua"/>
            </a:endParaRPr>
          </a:p>
        </p:txBody>
      </p:sp>
      <p:pic>
        <p:nvPicPr>
          <p:cNvPr id="533" name="Rectangle 3" descr=""/>
          <p:cNvPicPr/>
          <p:nvPr/>
        </p:nvPicPr>
        <p:blipFill>
          <a:blip r:embed="rId1"/>
          <a:stretch/>
        </p:blipFill>
        <p:spPr>
          <a:xfrm>
            <a:off x="128520" y="-171360"/>
            <a:ext cx="9485280" cy="1933560"/>
          </a:xfrm>
          <a:prstGeom prst="rect">
            <a:avLst/>
          </a:prstGeom>
          <a:ln w="0">
            <a:noFill/>
          </a:ln>
        </p:spPr>
      </p:pic>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
          <p:cNvSpPr txBox="1"/>
          <p:nvPr/>
        </p:nvSpPr>
        <p:spPr>
          <a:xfrm>
            <a:off x="0" y="1643040"/>
            <a:ext cx="9144000" cy="5214960"/>
          </a:xfrm>
          <a:prstGeom prst="rect">
            <a:avLst/>
          </a:prstGeom>
          <a:noFill/>
          <a:ln w="0">
            <a:noFill/>
          </a:ln>
        </p:spPr>
        <p:txBody>
          <a:bodyPr lIns="90000" rIns="90000" tIns="46800" bIns="46800"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70c0"/>
                </a:solidFill>
                <a:latin typeface="Constantia"/>
              </a:rPr>
              <a:t>John Batman had the potential to become one of the more revered names in Australian history. He is the only native-born Australian to found a state capital city. He spoke Aboriginal languages and was one of the few people of his time to attempt to compensate Aborigines for the use of their land</a:t>
            </a:r>
            <a:endParaRPr b="0" lang="en-US" sz="3600" spc="-1" strike="noStrike">
              <a:solidFill>
                <a:srgbClr val="ffffff"/>
              </a:solidFill>
              <a:latin typeface="Constantia"/>
            </a:endParaRPr>
          </a:p>
        </p:txBody>
      </p:sp>
      <p:pic>
        <p:nvPicPr>
          <p:cNvPr id="535" name="Rectangle 3" descr=""/>
          <p:cNvPicPr/>
          <p:nvPr/>
        </p:nvPicPr>
        <p:blipFill>
          <a:blip r:embed="rId1"/>
          <a:stretch/>
        </p:blipFill>
        <p:spPr>
          <a:xfrm>
            <a:off x="1981080" y="566640"/>
            <a:ext cx="5346720" cy="1201680"/>
          </a:xfrm>
          <a:prstGeom prst="rect">
            <a:avLst/>
          </a:prstGeom>
          <a:ln w="0">
            <a:noFill/>
          </a:ln>
        </p:spPr>
      </p:pic>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13T04:32:50Z</dcterms:created>
  <dc:creator>Education</dc:creator>
  <dc:description/>
  <dc:language>en-US</dc:language>
  <cp:lastModifiedBy>Education</cp:lastModifiedBy>
  <dcterms:modified xsi:type="dcterms:W3CDTF">2009-07-14T05:12:26Z</dcterms:modified>
  <cp:revision>13</cp:revision>
  <dc:subject/>
  <dc:title>Yarra river</dc:title>
</cp:coreProperties>
</file>